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C57B-1FCD-4025-8781-7EADA1CD1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0277-599A-4F94-B3B8-3E99061B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2B62-4F4B-4F76-A8BA-78C8DD56B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CDD9-0E64-4744-AC25-1AB1E620B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B3A1-959F-4A6C-BFC9-3C56341F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369E-FF8F-48BE-AC91-821CC561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4097-96A2-4676-9DF4-0347DCE8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F3BC-BE47-48BB-8B93-6D25F29B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BD32-CE98-4D42-A428-51E8EB08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32B0-BA36-44C2-ABB6-DEC5F715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28DE-90BF-45A4-BC85-9EC0D00F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79E1-CCAB-4D90-9B86-EDF52124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6B8E-24B7-4A0F-B04E-E49458C64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867280" y="1828800"/>
            <a:ext cx="1324080" cy="2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Sesiunea iunie-iulie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comp_i"/>
          <p:cNvPicPr/>
          <p:nvPr/>
        </p:nvPicPr>
        <p:blipFill>
          <a:blip r:embed="rId1"/>
          <a:stretch/>
        </p:blipFill>
        <p:spPr>
          <a:xfrm>
            <a:off x="5105520" y="1828800"/>
            <a:ext cx="3593880" cy="3594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15b2</cp:lastModifiedBy>
  <dcterms:modified xsi:type="dcterms:W3CDTF">2012-06-18T11:05:48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